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F21-A184-4E75-906F-4DED09CB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685-1D33-418B-BF6B-E22ED66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4F7-F6B0-4F9E-B035-5BA6F89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CC6-2E82-43CE-BE07-96F4179F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17BA2-C5F6-4E23-8C21-F945A1C4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451D7-79D7-47B0-BA8D-007391EB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49750-B15B-4555-8FAD-DB2A25FE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464E1-426A-46A5-B2A4-85AA09D2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565A5-2D6B-4D05-A65F-2EEEC74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90BE5-A638-4A07-950F-3385CDE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76AEF-8AD7-42CA-B3DF-2D112AB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EC4-1DA4-4112-8ADB-54405569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8972B-CD52-4635-BAA7-275EE00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B894C-F0C8-4266-A687-E45718B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5481D-59B4-4157-AA4C-C72D4F01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BBC4D-AD28-484E-B1F0-DBB3FA65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B2430-16CB-4B8B-BFDF-B576B510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765-ABA4-4990-9832-B1FB18A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E3D-80AE-4EF1-8300-6E6FC55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17C-3BB5-44C5-A38E-E0FCC1ED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F88-6097-4626-A666-3998C01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D64-6F3D-47EA-B865-254B4D2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6E9-3F39-4563-ACA7-386EB39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EBE-8A8D-49E3-A2A3-828F94F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FFCF-19FB-4C76-A988-80CDD35B3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83E-02F4-4EE1-AE81-D2D51F0932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rmation and Inhabitation of Uta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portant Eras in Ut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mbrian-earliest era and formation of Ut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eozoic-Gave us fossil fuel, coal , oil, and natural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ozoic- Dinosaurs and Rocky Mountain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-Surface was being shaped to resemble today’s landsca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nosau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osaurs National Mon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 par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2703600"/>
            <a:ext cx="4648320" cy="415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95680" y="6553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olarnavigator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tion of Rock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s pushed together until they started to fold, creating fa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ic activity pushed up the mountains and helped form the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ural Wealth in Ut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such as gold, silver, coo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(enough for the world for a thousand y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24280" y="3746520"/>
            <a:ext cx="3124440" cy="299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24280" y="6400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ketplace.publicradio.or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ce 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Glacier moved down scrapping the earth’s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114720" cy="45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80060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ww.impaward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ke Bonnevil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it’s peak: 20,000 sq miles and 1,000 d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through the red pass in northern cache valley emptying into Snake and Columbia 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ver that flowed into it enriched our s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anges happening to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dams by blocking rivers which cause fl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700 a year, mostly on Western Wasatch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22:34:19Z</dcterms:created>
  <dc:creator>James Fife</dc:creator>
  <dc:description/>
  <dc:language>en-US</dc:language>
  <cp:lastModifiedBy>James Fife</cp:lastModifiedBy>
  <dcterms:modified xsi:type="dcterms:W3CDTF">2009-02-14T23:04:30Z</dcterms:modified>
  <cp:revision>2</cp:revision>
  <dc:subject/>
  <dc:title>Formation and Inhabitation of Utah</dc:title>
</cp:coreProperties>
</file>